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ct" ContentType="image/x-pict"/>
  <Override PartName="/ppt/media/image8.png" ContentType="image/png"/>
  <Override PartName="/ppt/media/image6.png" ContentType="image/pn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8D9-30D9-408C-ABD1-24794282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5F1-9491-456C-B128-40AD54FC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BEF-A7A7-4110-8FDD-5AF2E07C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375-F6C4-44AA-B417-1FA1EAB5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9C15-3D46-4B7F-9F5A-D8AFA862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502E-0C48-4561-9FCF-152772E8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47C9-F054-4409-8DA4-DCE348FD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2605-C8E8-4541-9A10-96E9E462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AB53-CF68-4C84-A5B0-619A384D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8D4E-0436-41A8-8B9A-31902A7B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8ED1-91B5-44C7-AB59-ECC721FF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786A-EE44-4768-8718-BC983ACF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8027-1040-4666-B8EA-7578367A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80AB-CB00-4389-99D6-2C78DE9C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4DA6-5F96-434A-80A3-AA1FA6D2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F8E7-6413-43C7-9C10-3D266556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9D7C-DE03-48BF-9452-5F1B62CC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BEA-4257-4EA3-96C5-6FA1E258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471-FC1B-471C-B836-2201892D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14B-CF4E-4C1B-BDE7-835FFE63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8A9-1B4A-42FF-9C52-52669A5F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568C-321F-4B87-89BA-2EC0822D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F69-49CB-423F-B21D-26A448C0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AD1-AB6F-4713-AC8D-B14E7ABC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4517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4517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D70-6ABC-47A3-B2F7-DF3815ECC395}" type="slidenum">
              <a:rPr b="0" lang="en-US" sz="1400" spc="-1" strike="noStrike">
                <a:solidFill>
                  <a:srgbClr val="674517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Palatino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5" marL="2036520" indent="-226080">
              <a:spcBef>
                <a:spcPts val="799"/>
              </a:spcBef>
              <a:buClr>
                <a:srgbClr val="674517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6" marL="2036520" indent="-226080">
              <a:spcBef>
                <a:spcPts val="799"/>
              </a:spcBef>
              <a:buClr>
                <a:srgbClr val="674517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4517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4517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4517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A68B-E675-4E2A-8B4D-87DD544C906B}" type="slidenum">
              <a:rPr b="0" lang="en-US" sz="1400" spc="-1" strike="noStrike">
                <a:solidFill>
                  <a:srgbClr val="674517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Palatino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4517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674517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4517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674517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74517"/>
                </a:solidFill>
                <a:latin typeface="Palatino"/>
              </a:rPr>
              <a:t>Third Outline Level</a:t>
            </a:r>
            <a:endParaRPr b="0" i="1" lang="en-US" sz="2400" spc="-1" strike="noStrike">
              <a:solidFill>
                <a:srgbClr val="674517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4517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674517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Palatino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4517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674517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674517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4517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674517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674517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4517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674517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d4d4d"/>
                </a:solidFill>
                <a:latin typeface="Palatino"/>
              </a:rPr>
              <a:t>ABC Biography of</a:t>
            </a:r>
            <a:endParaRPr b="0" lang="en-US" sz="4400" spc="-1" strike="noStrike">
              <a:solidFill>
                <a:srgbClr val="4d4d4d"/>
              </a:solidFill>
              <a:latin typeface="Palatin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152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74517"/>
                </a:solidFill>
                <a:latin typeface="Palatino"/>
              </a:rPr>
              <a:t>Benjamin Franklin</a:t>
            </a:r>
            <a:endParaRPr b="0" lang="en-US" sz="8800" spc="-1" strike="noStrike">
              <a:solidFill>
                <a:srgbClr val="674517"/>
              </a:solidFill>
              <a:latin typeface="Palatino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84880" y="990720"/>
            <a:ext cx="3504960" cy="5537160"/>
            <a:chOff x="5384880" y="990720"/>
            <a:chExt cx="3504960" cy="553716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5562720" y="1066680"/>
              <a:ext cx="3327120" cy="54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5384880" y="990720"/>
              <a:ext cx="1015920" cy="2832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BC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094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Although Ben Franklin was born in Boston, the city of Philadelphia was known as his home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255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Benjamin’s father wanted him to go into the clergy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36576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Clergymen require years of school and Ben’s father could only afford to send him for one year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650960" cy="198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09680" y="53341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During his youth, Ben worked as an apprentice in his brother’s printing and newspaper businesses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FG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3366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Even though Ben had kept the newspaper going while his brother was in prison, his brother harassed and beat him when he was released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2255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For his own safety, Ben ran away to Philadelphia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35812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Getting started in his own business was difficult, but Ben managed to open his own print shop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5181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He married his childhood sweetheart and together they ran the print shop, a general store, and a book store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10280" y="3886200"/>
            <a:ext cx="1905120" cy="237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JK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609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In 1729, Benjamin bought a newspaper, </a:t>
            </a:r>
            <a:r>
              <a:rPr b="0" i="1" lang="en-US" sz="2400" spc="-1" strike="noStrike">
                <a:solidFill>
                  <a:srgbClr val="674517"/>
                </a:solidFill>
                <a:latin typeface="Times New Roman"/>
              </a:rPr>
              <a:t>The Pennslyvania Gazette. </a:t>
            </a: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He contributed articles under aliases and created the first political cartoon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22255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Just a few years later, in 1733, Ben began to write and publish </a:t>
            </a:r>
            <a:r>
              <a:rPr b="0" i="1" lang="en-US" sz="2400" spc="-1" strike="noStrike">
                <a:solidFill>
                  <a:srgbClr val="674517"/>
                </a:solidFill>
                <a:latin typeface="Times New Roman"/>
              </a:rPr>
              <a:t>Poor Richard’s Almanac</a:t>
            </a: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380988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Keeping to his strong civic convictions, Ben launched projects to pave, clean, and light Philadelphia’s streets. 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53341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Later, he started the first fire department in the city, and founded an insurance company for those who lost homes in fires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0120" y="1981080"/>
            <a:ext cx="115704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NO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049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Making a decision to retire from business in 1749, Ben started concentrating on science, experiments, and inventions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19810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Never one to give up, Ben invented swim fins, bifocals, the Franklin stove, and other things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90204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Observations, such as his kite experiment, led to the discovery of electricity. 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3341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Politics became an active interest for Franklin and he spent the next 18 years in England as a colonial representative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1676520"/>
            <a:ext cx="1978200" cy="193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R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808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Quitting his London position, Franklin returned to America where he worked on the committee to draft the Declaration of Independence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22255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Right after his wife died, Franklin moved to France where he served as an ambassador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657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Speaking a little French, Franklin became with the ladies and was a notorious flirt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533412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The Treaty of France was signed by Franklin in 1783, after the Americans had won the Revolution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86600" y="3124080"/>
            <a:ext cx="1905120" cy="2146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 rot="5400000">
            <a:off x="-1714680" y="2628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VW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Until his late seventies, Franklin stayed in France. Finally he returned to America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22255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Voters elected Franklin to the Executive council of Pennsylvania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380988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While serving as a delegate, Franklin signed the Constitution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533412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eXactly why he died is not known, but Franklin passed away in 1790 at the age of 84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2209680"/>
            <a:ext cx="1905120" cy="233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 rot="5400000">
            <a:off x="-342720" y="1257120"/>
            <a:ext cx="31244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6094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Years of public service had made Franklin very popular. Over 20,000 people attended his funeral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22860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517"/>
                </a:solidFill>
                <a:latin typeface="Times New Roman"/>
              </a:rPr>
              <a:t>Zealous supporters say that Franklin’s “electric” personality still lights the world.</a:t>
            </a:r>
            <a:endParaRPr b="0" lang="en-US" sz="2400" spc="-1" strike="noStrike">
              <a:solidFill>
                <a:srgbClr val="674517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flipH="1">
            <a:off x="6172200" y="3429000"/>
            <a:ext cx="2540160" cy="3263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77560" y="5791320"/>
            <a:ext cx="298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4517"/>
                </a:solidFill>
                <a:latin typeface="Times New Roman"/>
              </a:rPr>
              <a:t>Information and images in </a:t>
            </a:r>
            <a:endParaRPr b="0" lang="en-US" sz="1600" spc="-1" strike="noStrike">
              <a:solidFill>
                <a:srgbClr val="67451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4517"/>
                </a:solidFill>
                <a:latin typeface="Times New Roman"/>
              </a:rPr>
              <a:t>this presentation are from: </a:t>
            </a:r>
            <a:endParaRPr b="0" lang="en-US" sz="1600" spc="-1" strike="noStrike">
              <a:solidFill>
                <a:srgbClr val="67451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74517"/>
                </a:solidFill>
                <a:latin typeface="Times New Roman"/>
              </a:rPr>
              <a:t>http://www.ushistory.org/franklin/</a:t>
            </a:r>
            <a:endParaRPr b="0" lang="en-US" sz="1600" spc="-1" strike="noStrike">
              <a:solidFill>
                <a:srgbClr val="67451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21:09:12Z</dcterms:created>
  <dc:creator>Tammy Worcester</dc:creator>
  <dc:description/>
  <dc:language>en-US</dc:language>
  <cp:lastModifiedBy>Tammy Worcester</cp:lastModifiedBy>
  <dcterms:modified xsi:type="dcterms:W3CDTF">2003-10-10T00:13:29Z</dcterms:modified>
  <cp:revision>7</cp:revision>
  <dc:subject/>
  <dc:title>ABC Biography of</dc:title>
</cp:coreProperties>
</file>